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5AE-6F7D-4DA8-AE52-D0016393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A16-B8FD-4546-98E3-463341F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F90-E0CA-4AC8-B262-6535E3A5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5E3-CAF9-4465-A61E-9438006C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C5F-2629-4D8B-B968-E946F840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EBD-76D1-4572-ABFD-244996C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BCD-2380-4ED2-9A0E-388F82D2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15F-74F8-49A7-8014-1E8839CB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588-6C0E-4A8F-AA66-2138E76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FE6-3738-442D-B778-14FBDC3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9BC-4C26-4FE0-9515-2DE2C3C7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2D2-9CD5-4899-A92F-01F1A0B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4498-DAEF-46FF-96F2-9C165D53D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andomiz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91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388620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739116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90920" y="297180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581280"/>
            <a:ext cx="739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39152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391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With randomization, you hope that the distribution o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variables are distributed similarly in the groups being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5:03:46Z</dcterms:modified>
  <cp:revision>43</cp:revision>
  <dc:subject/>
  <dc:title>PowerPoint Presentation</dc:title>
</cp:coreProperties>
</file>